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EE7-7A6D-41F8-8794-B2A6B3AC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9EF-4764-42DF-A0B4-28A2D8D3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7EF-E2DA-4A10-BA91-6B19F073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085-551C-4250-B0D2-BAAFDF2E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B78F-697E-4A29-9975-4E3E4CE5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020-29ED-4003-8EDC-DA94D5BC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A90-CA27-4A1C-90B1-A75F62D9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62F-474B-40B3-9A16-72673FF9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232B-4EEE-470F-9349-3AE631DE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6A11-46F7-47B5-9BC5-F90ECF4F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DBF0-8B81-4510-AEAF-2924358F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1F39-E3E8-418F-A20C-A2347629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A9606-B144-4B8D-BD0B-A4FD7E913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VISION 2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l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entences begin with a subject followed by a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sprai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ankle the first time I went ice-sk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cat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finicky 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en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Sometimes the best way to vary sentence beginnings is to reduce a short sentence to an introductory word, phrase, or clause and attach it to another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Example: The novel put me to sleep after an hour or reading. It is long and d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Long and dull, the novel put me to sleep after an hour of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egin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Sentence Conn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Almost everyone watches television. </a:t>
            </a: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But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how many people really know how a television set work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pposi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A merchant sailor for ten years,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Jim knew every important port in the wor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Single-word Mod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Shivering,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we warmed our chapped hands by the f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Phrase Mod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From the window of the plane,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Marisol saw her family waving goodby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revise your writing style, it isn’t always enough to vary your sentence beginnings. It’s also important to vary your sentence structures. That means using a mix of simple, compound, complex (and sometimes compound-complex)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void Word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1. Use only the words you need to make you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2. Avoid complicated words where simple ones will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3. Don’t repeat words unless it’s absolutely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ometimes you can fix a wordy sentence by taking out whole groups of unnecessary words. At other times you can revise by reducing clauses to phrases and both clauses and phrases to singl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Arial"/>
              </a:rPr>
              <a:t>Word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219320"/>
            <a:ext cx="4114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Wor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t whic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By mean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Due to the fac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In spite of the fac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In the even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The fact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1295280"/>
            <a:ext cx="42674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Because, 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l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c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7:10:33Z</dcterms:created>
  <dc:creator>User</dc:creator>
  <dc:description/>
  <dc:language>en-US</dc:language>
  <cp:lastModifiedBy>User</cp:lastModifiedBy>
  <dcterms:modified xsi:type="dcterms:W3CDTF">2006-10-10T17:25:23Z</dcterms:modified>
  <cp:revision>4</cp:revision>
  <dc:subject/>
  <dc:title>REVISION 2</dc:title>
</cp:coreProperties>
</file>